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2.png" ContentType="image/png"/>
  <Override PartName="/ppt/media/image25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png" ContentType="image/png"/>
  <Override PartName="/ppt/media/image19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33.png" ContentType="image/png"/>
  <Override PartName="/ppt/media/image11.png" ContentType="image/png"/>
  <Override PartName="/ppt/media/image9.jpeg" ContentType="image/jpeg"/>
  <Override PartName="/ppt/media/image40.png" ContentType="image/png"/>
  <Override PartName="/ppt/media/image30.jpeg" ContentType="image/jpeg"/>
  <Override PartName="/ppt/media/LASER.WAV" ContentType="audio/x-wav"/>
  <Override PartName="/ppt/media/image32.jpeg" ContentType="image/jpeg"/>
  <Override PartName="/ppt/media/image38.jpeg" ContentType="image/jpeg"/>
  <Override PartName="/ppt/media/image31.jpeg" ContentType="image/jpeg"/>
  <Override PartName="/ppt/media/image41.png" ContentType="image/png"/>
  <Override PartName="/ppt/media/image6.png" ContentType="image/png"/>
  <Override PartName="/ppt/media/image36.png" ContentType="image/pn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5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5A9-B4CB-4C9D-B68F-6994C0F4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819-51E9-4ED8-9CDC-2CC8D1CD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6650-53C2-4F07-B519-09F7EDE9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D2AA-EA12-4973-9E06-F4E51109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52CF-9943-4A5C-AC75-75F9724B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309D-144B-4B91-834E-E0BBBFE2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B87D-F3A9-4B25-B819-0CFA1447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641D-1C3E-4599-B750-AB420DC7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BD38-A6DC-4392-BE50-7E80DA7B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CFFD-58E0-47B7-9F55-B9C581DD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0AC7-ABAF-45A1-958D-E3902A54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47E-4D0F-484C-BC15-858BC9A7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E4B3-FC93-4356-A39C-701A17DE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A4CF-2CB8-4891-AD3B-67C7C763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CF0C-E979-4FB0-AA3A-5702021B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FAF5-82D2-4991-9557-64C09BF5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E58E-50E8-4736-B7E9-947B0A65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40E83-F825-41B0-A884-1EFBC925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E1CB9-4012-4EA9-9C26-9044AF6E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5C170-3E7A-4259-AEB9-BC06AE95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E474B-6491-4CB0-BFBC-C54D5E35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7B737-5780-4C9E-B2CE-0E91232D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A609-C988-4930-A14C-EC3C1587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FFA01-BD37-467B-ABC1-71F58993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971C2-1CA0-4EC5-8E1D-9D0D4861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EE0DC-583C-4C50-A851-DECA8C32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6ABF6-4315-497E-AB12-C2D7E305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4B400-CC3A-4431-B025-31CA3FBB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477C4-B22F-4137-A286-EC63D21C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0710E-581F-4063-AD35-21A9D5A8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643-F9FA-470C-BA7C-B99541F3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EFA-61FA-45DD-A270-D34027A1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C8C1-508D-4E3B-9203-C2CFC425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F5A2-EB9A-43BD-AA77-21D9DA1F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3A4A-C380-4C95-BBC2-F1073A51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DF5F-5921-4255-842B-2F9BEA4A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EE55-9DD6-4C63-8EEC-063946315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5BA9-7F1C-4901-BACC-4D5F3679B1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6D90-C539-4F44-AA9C-A3586034CB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4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png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.png"/><Relationship Id="rId3" Type="http://schemas.openxmlformats.org/officeDocument/2006/relationships/image" Target="../media/image39.gif"/><Relationship Id="rId4" Type="http://schemas.openxmlformats.org/officeDocument/2006/relationships/image" Target="../media/image40.png"/><Relationship Id="rId5" Type="http://schemas.openxmlformats.org/officeDocument/2006/relationships/image" Target="../media/image39.gif"/><Relationship Id="rId6" Type="http://schemas.openxmlformats.org/officeDocument/2006/relationships/image" Target="../media/image41.png"/><Relationship Id="rId7" Type="http://schemas.openxmlformats.org/officeDocument/2006/relationships/image" Target="../media/image39.gif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26920" y="331920"/>
            <a:ext cx="7777440" cy="30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лг -  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атежом     красен!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3511440"/>
            <a:ext cx="4572000" cy="337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0" y="3511440"/>
            <a:ext cx="457200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4944960"/>
            <a:ext cx="2268360" cy="1913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68360" cy="19130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6875640" y="4944960"/>
            <a:ext cx="2268360" cy="1913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6875640" y="0"/>
            <a:ext cx="2268360" cy="19130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2771640" y="836640"/>
            <a:ext cx="352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Портал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771640" y="5445000"/>
            <a:ext cx="3814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latin typeface="Impact"/>
              </a:rPr>
              <a:t>открыт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-840240" y="0"/>
            <a:ext cx="9984240" cy="6858000"/>
            <a:chOff x="-840240" y="0"/>
            <a:chExt cx="9984240" cy="685800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7466040" y="5721480"/>
              <a:ext cx="167796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560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3"/>
            <a:stretch/>
          </p:blipFill>
          <p:spPr>
            <a:xfrm>
              <a:off x="395280" y="620640"/>
              <a:ext cx="3768840" cy="422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5796000" y="5721480"/>
              <a:ext cx="167796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5"/>
            <a:stretch/>
          </p:blipFill>
          <p:spPr>
            <a:xfrm flipH="1">
              <a:off x="5795640" y="5721480"/>
              <a:ext cx="167796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6"/>
            <a:stretch/>
          </p:blipFill>
          <p:spPr>
            <a:xfrm>
              <a:off x="4154400" y="5721480"/>
              <a:ext cx="167796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7"/>
            <a:stretch/>
          </p:blipFill>
          <p:spPr>
            <a:xfrm flipH="1">
              <a:off x="2484000" y="5721480"/>
              <a:ext cx="167796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8"/>
            <a:stretch/>
          </p:blipFill>
          <p:spPr>
            <a:xfrm>
              <a:off x="830160" y="5721480"/>
              <a:ext cx="167796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9"/>
            <a:stretch/>
          </p:blipFill>
          <p:spPr>
            <a:xfrm flipH="1">
              <a:off x="-840240" y="5721480"/>
              <a:ext cx="1677960" cy="11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 txBox="1"/>
            <p:nvPr/>
          </p:nvSpPr>
          <p:spPr>
            <a:xfrm>
              <a:off x="3059280" y="4869000"/>
              <a:ext cx="3162240" cy="74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66"/>
                  </a:solidFill>
                  <a:latin typeface="Arial"/>
                </a:rPr>
                <a:t>Хогвартс</a:t>
              </a:r>
              <a:endParaRPr b="0" lang="en-US" sz="1800" spc="1" strike="noStrike">
                <a:ln w="0">
                  <a:noFill/>
                </a:ln>
                <a:solidFill>
                  <a:srgbClr val="ffff66"/>
                </a:solidFill>
                <a:latin typeface="Arial"/>
                <a:ea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10"/>
            <a:stretch/>
          </p:blipFill>
          <p:spPr>
            <a:xfrm>
              <a:off x="8016840" y="0"/>
              <a:ext cx="1127160" cy="134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219320" y="0"/>
                <a:ext cx="24048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219320" y="620640"/>
                <a:ext cx="2403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146240" y="1916280"/>
                <a:ext cx="24717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+</m:t>
                        </m:r>
                        <m:r>
                          <m:t xml:space="preserve">0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46240" y="2637000"/>
                <a:ext cx="27781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+</m:t>
                        </m:r>
                        <m:r>
                          <m:t xml:space="preserve">5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46240" y="3860640"/>
                <a:ext cx="26049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46240" y="5157720"/>
                <a:ext cx="2708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,4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621400" y="0"/>
                <a:ext cx="29113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692680" y="1341360"/>
                <a:ext cx="2233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+</m:t>
                        </m:r>
                        <m:r>
                          <m:t xml:space="preserve">4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621400" y="2133720"/>
                <a:ext cx="26049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621400" y="3500280"/>
                <a:ext cx="27781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621400" y="4941720"/>
                <a:ext cx="2736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 txBox="1"/>
          <p:nvPr/>
        </p:nvSpPr>
        <p:spPr>
          <a:xfrm>
            <a:off x="569880" y="88920"/>
            <a:ext cx="31608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1e3c5b"/>
                  </a:outerShdw>
                </a:effectLst>
                <a:latin typeface="Times New Roman"/>
              </a:rPr>
              <a:t>1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1e3c5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69880" y="1052640"/>
            <a:ext cx="31608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1e3c5b"/>
                  </a:outerShdw>
                </a:effectLst>
                <a:latin typeface="Times New Roman"/>
              </a:rPr>
              <a:t>2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1e3c5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69880" y="1989000"/>
            <a:ext cx="31608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1e3c5b"/>
                  </a:outerShdw>
                </a:effectLst>
                <a:latin typeface="Times New Roman"/>
              </a:rPr>
              <a:t>3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1e3c5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69880" y="2924280"/>
            <a:ext cx="31608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1e3c5b"/>
                  </a:outerShdw>
                </a:effectLst>
                <a:latin typeface="Times New Roman"/>
              </a:rPr>
              <a:t>4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1e3c5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69880" y="4221000"/>
            <a:ext cx="31608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1e3c5b"/>
                  </a:outerShdw>
                </a:effectLst>
                <a:latin typeface="Times New Roman"/>
              </a:rPr>
              <a:t>5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1e3c5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69880" y="5229360"/>
            <a:ext cx="31608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1e3c5b"/>
                  </a:outerShdw>
                </a:effectLst>
                <a:latin typeface="Times New Roman"/>
              </a:rPr>
              <a:t>6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1e3c5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973760" y="333360"/>
            <a:ext cx="31572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1e3c5b"/>
                  </a:outerShdw>
                </a:effectLst>
                <a:latin typeface="Times New Roman"/>
              </a:rPr>
              <a:t>7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1e3c5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973760" y="1413000"/>
            <a:ext cx="31572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1e3c5b"/>
                  </a:outerShdw>
                </a:effectLst>
                <a:latin typeface="Times New Roman"/>
              </a:rPr>
              <a:t>8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1e3c5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973760" y="2565360"/>
            <a:ext cx="31572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1e3c5b"/>
                  </a:outerShdw>
                </a:effectLst>
                <a:latin typeface="Times New Roman"/>
              </a:rPr>
              <a:t>9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1e3c5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973760" y="3933720"/>
            <a:ext cx="31572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1e3c5b"/>
                  </a:outerShdw>
                </a:effectLst>
                <a:latin typeface="Times New Roman"/>
              </a:rPr>
              <a:t>10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1e3c5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73760" y="4941720"/>
            <a:ext cx="31572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1e3c5b"/>
                  </a:outerShdw>
                </a:effectLst>
                <a:latin typeface="Times New Roman"/>
              </a:rPr>
              <a:t>11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1e3c5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5877000"/>
            <a:ext cx="9144000" cy="930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-  (-0,7);  Р- (-0,4);     П- (-1 5/18);     А – (-0,9);   Т – 0;  Б – (-18,2);       А – (-0,16);    Г – (-5,3);     М –(-4);    Х – 3,5;     А-(-2,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314172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-0,1 + (-14))+(3,05+4,2 +(-3,05)+(-0,85 + 14,1 + 0,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0" t="26635" r="11849" b="10153"/>
          <a:stretch/>
        </p:blipFill>
        <p:spPr>
          <a:xfrm>
            <a:off x="0" y="4398840"/>
            <a:ext cx="4572000" cy="2459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1849" t="26635" r="0" b="10153"/>
          <a:stretch/>
        </p:blipFill>
        <p:spPr>
          <a:xfrm>
            <a:off x="4572000" y="4398840"/>
            <a:ext cx="4572000" cy="2459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105264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(-6,2+12)+(-2,5 +(-6,4) + 2,5)+(8,9 + (-</a:t>
            </a:r>
            <a:r>
              <a:rPr b="1" lang="en" sz="2400" spc="-1" strike="noStrike">
                <a:solidFill>
                  <a:srgbClr val="000000"/>
                </a:solidFill>
                <a:latin typeface="Comic Sans MS"/>
              </a:rPr>
              <a:t>5,8) + (-8,9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203640" y="189000"/>
            <a:ext cx="262080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 вариант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203640" y="2060640"/>
            <a:ext cx="262080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 вариант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rcRect l="0" t="0" r="0" b="84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волхв"/>
          <p:cNvPicPr/>
          <p:nvPr/>
        </p:nvPicPr>
        <p:blipFill>
          <a:blip r:embed="rId2"/>
          <a:srcRect l="3337" t="3337" r="0" b="6656"/>
          <a:stretch/>
        </p:blipFill>
        <p:spPr>
          <a:xfrm>
            <a:off x="2411280" y="2701800"/>
            <a:ext cx="4465800" cy="4156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68360" y="1341360"/>
            <a:ext cx="8064360" cy="208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4549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ccecff"/>
                </a:solidFill>
                <a:effectLst>
                  <a:outerShdw dist="17819" dir="2700000" blurRad="0" rotWithShape="0">
                    <a:srgbClr val="3c001e"/>
                  </a:outerShdw>
                </a:effectLst>
                <a:latin typeface="Arial"/>
              </a:rPr>
              <a:t>На дверях </a:t>
            </a:r>
            <a:endParaRPr b="1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ccecff"/>
              </a:solidFill>
              <a:effectLst>
                <a:outerShdw dist="17819" dir="2700000" blurRad="0" rotWithShape="0">
                  <a:srgbClr val="3c001e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ccecff"/>
                </a:solidFill>
                <a:effectLst>
                  <a:outerShdw dist="17819" dir="2700000" blurRad="0" rotWithShape="0">
                    <a:srgbClr val="3c001e"/>
                  </a:outerShdw>
                </a:effectLst>
                <a:latin typeface="Arial"/>
              </a:rPr>
              <a:t>заколдованный замок</a:t>
            </a:r>
            <a:endParaRPr b="1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ccecff"/>
              </a:solidFill>
              <a:effectLst>
                <a:outerShdw dist="17819" dir="2700000" blurRad="0" rotWithShape="0">
                  <a:srgbClr val="3c001e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824400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08000" y="189000"/>
            <a:ext cx="8978760" cy="6192720"/>
          </a:xfrm>
          <a:prstGeom prst="roundRect">
            <a:avLst>
              <a:gd name="adj" fmla="val 3197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00000" y="260280"/>
            <a:ext cx="748980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А)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Сложили  числа  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и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–8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    Получили отрицательное число. Можно ли утверждать , что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х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положительное числ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Б)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При каких целых значениях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, значения выражения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у+5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являются отрицательными числа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В)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При каких целых значениях 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,  значения выражения 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х+3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являются положительными чис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0" y="595800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8244000" y="595800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rcRect l="9669" t="7169" r="21027" b="23528"/>
          <a:stretch/>
        </p:blipFill>
        <p:spPr>
          <a:xfrm>
            <a:off x="5796000" y="25560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21027" t="7169" r="9669" b="23528"/>
          <a:stretch/>
        </p:blipFill>
        <p:spPr>
          <a:xfrm>
            <a:off x="179280" y="189000"/>
            <a:ext cx="3240360" cy="32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2771640" y="1700280"/>
          <a:ext cx="3622680" cy="420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1640" y="1700280"/>
                    <a:ext cx="362268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920" y="5982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Дамблдор заколдован !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>
    <p:randomBar dir="horz"/>
    <p:sndAc>
      <p:stSnd>
        <p:snd r:embed="rId6" name="LAS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476280"/>
            <a:ext cx="5256360" cy="1584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66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-Х = -7,2 +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43280" y="4869000"/>
            <a:ext cx="6049800" cy="1728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66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-У=-13+(-8    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050920" y="2637000"/>
            <a:ext cx="5256360" cy="158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66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-К=11+(-12,3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940360" y="333360"/>
            <a:ext cx="2987640" cy="1996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Антиквариат.ру - Замок шведский №002739"/>
          <p:cNvPicPr/>
          <p:nvPr/>
        </p:nvPicPr>
        <p:blipFill>
          <a:blip r:embed="rId3"/>
          <a:stretch/>
        </p:blipFill>
        <p:spPr>
          <a:xfrm>
            <a:off x="108000" y="4541760"/>
            <a:ext cx="2519280" cy="19893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7439040" y="508464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43640" y="579420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7" name=""/>
          <p:cNvSpPr txBox="1"/>
          <p:nvPr/>
        </p:nvSpPr>
        <p:spPr>
          <a:xfrm rot="16200000">
            <a:off x="7573680" y="5414400"/>
            <a:ext cx="795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692360" y="333360"/>
          <a:ext cx="5905440" cy="548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33360"/>
                    <a:ext cx="5905440" cy="54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 txBox="1"/>
          <p:nvPr/>
        </p:nvSpPr>
        <p:spPr>
          <a:xfrm>
            <a:off x="826920" y="5589720"/>
            <a:ext cx="784872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м нужен дракон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24000" y="1684440"/>
            <a:ext cx="5113080" cy="3833640"/>
          </a:xfrm>
          <a:prstGeom prst="rect">
            <a:avLst/>
          </a:prstGeom>
          <a:ln w="76320">
            <a:solidFill>
              <a:srgbClr val="666633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6012000" y="1900080"/>
            <a:ext cx="2592360" cy="3384720"/>
          </a:xfrm>
          <a:prstGeom prst="bevel">
            <a:avLst>
              <a:gd name="adj" fmla="val 4838"/>
            </a:avLst>
          </a:prstGeom>
          <a:solidFill>
            <a:srgbClr val="ffffcc"/>
          </a:solidFill>
          <a:ln w="9360">
            <a:solidFill>
              <a:srgbClr val="6666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Arial"/>
              </a:rPr>
              <a:t>Герми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Arial"/>
              </a:rPr>
              <a:t>Гар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Arial"/>
              </a:rPr>
              <a:t>Р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651640" y="1612800"/>
            <a:ext cx="438120" cy="520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8459640" y="1539720"/>
            <a:ext cx="438120" cy="520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5724360" y="5068800"/>
            <a:ext cx="438480" cy="520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8459640" y="5068800"/>
            <a:ext cx="438120" cy="52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68360" y="189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33"/>
                </a:solidFill>
                <a:latin typeface="Arial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2200" y="1162080"/>
            <a:ext cx="8497800" cy="5327640"/>
          </a:xfrm>
          <a:prstGeom prst="roundRect">
            <a:avLst>
              <a:gd name="adj" fmla="val 20796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56000" y="43560"/>
            <a:ext cx="41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Правил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618120"/>
            <a:ext cx="813744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1) сумма двух имуществ есть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мущество;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2) сумма двух долгов есть долг;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3) сумма нуля и долга есть долг;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4) сумма имущества и нуля есть    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муще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332000" y="1159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732720" y="11592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26920" y="331920"/>
            <a:ext cx="7777440" cy="30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лг -  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атежом     красен!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3511440"/>
            <a:ext cx="4572000" cy="33735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572000" y="3511440"/>
            <a:ext cx="457200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rcRect l="0" t="5560" r="0" b="24031"/>
          <a:stretch/>
        </p:blipFill>
        <p:spPr>
          <a:xfrm>
            <a:off x="0" y="692280"/>
            <a:ext cx="4875120" cy="50846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427640" y="115920"/>
            <a:ext cx="4608360" cy="6408720"/>
          </a:xfrm>
          <a:custGeom>
            <a:avLst/>
            <a:gdLst>
              <a:gd name="textAreaLeft" fmla="*/ 224640 w 4608360"/>
              <a:gd name="textAreaRight" fmla="*/ 4383720 w 4608360"/>
              <a:gd name="textAreaTop" fmla="*/ 224640 h 6408720"/>
              <a:gd name="textAreaBottom" fmla="*/ 6184080 h 6408720"/>
            </a:gdLst>
            <a:ahLst/>
            <a:rect l="textAreaLeft" t="textAreaTop" r="textAreaRight" b="textAreaBottom"/>
            <a:pathLst>
              <a:path w="21600" h="30038">
                <a:moveTo>
                  <a:pt x="3600" y="0"/>
                </a:moveTo>
                <a:arcTo wR="3600" hR="3600" stAng="16200000" swAng="-5400000"/>
                <a:lnTo>
                  <a:pt x="0" y="26438"/>
                </a:lnTo>
                <a:arcTo wR="3600" hR="3600" stAng="10800000" swAng="-5400000"/>
                <a:lnTo>
                  <a:pt x="18000" y="300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580000" y="3500280"/>
            <a:ext cx="2521080" cy="2843280"/>
            <a:chOff x="5580000" y="3500280"/>
            <a:chExt cx="2521080" cy="2843280"/>
          </a:xfrm>
        </p:grpSpPr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5580000" y="3500280"/>
              <a:ext cx="2521080" cy="284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5" name=""/>
            <p:cNvGrpSpPr/>
            <p:nvPr/>
          </p:nvGrpSpPr>
          <p:grpSpPr>
            <a:xfrm>
              <a:off x="6237360" y="4437000"/>
              <a:ext cx="1049760" cy="1103760"/>
              <a:chOff x="6237360" y="4437000"/>
              <a:chExt cx="1049760" cy="1103760"/>
            </a:xfrm>
          </p:grpSpPr>
          <p:sp>
            <p:nvSpPr>
              <p:cNvPr id="276" name=""/>
              <p:cNvSpPr/>
              <p:nvPr/>
            </p:nvSpPr>
            <p:spPr>
              <a:xfrm>
                <a:off x="6483600" y="4631400"/>
                <a:ext cx="618120" cy="584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237360" y="4437000"/>
                <a:ext cx="1049760" cy="1103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78" name=""/>
          <p:cNvGrpSpPr/>
          <p:nvPr/>
        </p:nvGrpSpPr>
        <p:grpSpPr>
          <a:xfrm>
            <a:off x="4427640" y="404640"/>
            <a:ext cx="2376360" cy="2808360"/>
            <a:chOff x="4427640" y="404640"/>
            <a:chExt cx="2376360" cy="2808360"/>
          </a:xfrm>
        </p:grpSpPr>
        <p:pic>
          <p:nvPicPr>
            <p:cNvPr id="279" name="" descr=""/>
            <p:cNvPicPr/>
            <p:nvPr/>
          </p:nvPicPr>
          <p:blipFill>
            <a:blip r:embed="rId5"/>
            <a:stretch/>
          </p:blipFill>
          <p:spPr>
            <a:xfrm>
              <a:off x="4427640" y="404640"/>
              <a:ext cx="2376360" cy="280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5047200" y="1264320"/>
              <a:ext cx="1051920" cy="1123200"/>
              <a:chOff x="5047200" y="1264320"/>
              <a:chExt cx="1051920" cy="1123200"/>
            </a:xfrm>
          </p:grpSpPr>
          <p:sp>
            <p:nvSpPr>
              <p:cNvPr id="281" name=""/>
              <p:cNvSpPr/>
              <p:nvPr/>
            </p:nvSpPr>
            <p:spPr>
              <a:xfrm>
                <a:off x="5272560" y="1425240"/>
                <a:ext cx="601200" cy="562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047200" y="1264320"/>
                <a:ext cx="1051920" cy="1123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3" name=""/>
          <p:cNvGrpSpPr/>
          <p:nvPr/>
        </p:nvGrpSpPr>
        <p:grpSpPr>
          <a:xfrm>
            <a:off x="6659640" y="333360"/>
            <a:ext cx="2305080" cy="2951280"/>
            <a:chOff x="6659640" y="333360"/>
            <a:chExt cx="2305080" cy="2951280"/>
          </a:xfrm>
        </p:grpSpPr>
        <p:pic>
          <p:nvPicPr>
            <p:cNvPr id="284" name="" descr=""/>
            <p:cNvPicPr/>
            <p:nvPr/>
          </p:nvPicPr>
          <p:blipFill>
            <a:blip r:embed="rId7"/>
            <a:stretch/>
          </p:blipFill>
          <p:spPr>
            <a:xfrm>
              <a:off x="6659640" y="333360"/>
              <a:ext cx="2305080" cy="295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5" name=""/>
            <p:cNvGrpSpPr/>
            <p:nvPr/>
          </p:nvGrpSpPr>
          <p:grpSpPr>
            <a:xfrm>
              <a:off x="7259400" y="1236600"/>
              <a:ext cx="1020240" cy="1111680"/>
              <a:chOff x="7259400" y="1236600"/>
              <a:chExt cx="1020240" cy="1111680"/>
            </a:xfrm>
          </p:grpSpPr>
          <p:sp>
            <p:nvSpPr>
              <p:cNvPr id="286" name=""/>
              <p:cNvSpPr/>
              <p:nvPr/>
            </p:nvSpPr>
            <p:spPr>
              <a:xfrm>
                <a:off x="7497360" y="1400760"/>
                <a:ext cx="578160" cy="630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59400" y="1236600"/>
                <a:ext cx="1020240" cy="1111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Долг – платежом красе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32000" y="1555920"/>
            <a:ext cx="6553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1e3c5b"/>
                  </a:outerShdw>
                </a:effectLst>
                <a:latin typeface="Times New Roman"/>
              </a:rPr>
              <a:t>Сложение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1e3c5b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1e3c5b"/>
                  </a:outerShdw>
                </a:effectLst>
                <a:latin typeface="Times New Roman"/>
              </a:rPr>
              <a:t>чисел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1e3c5b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19280" y="5589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732720" y="5589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995640" y="5229360"/>
            <a:ext cx="1187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5900" t="0" r="10625" b="0"/>
          <a:stretch/>
        </p:blipFill>
        <p:spPr>
          <a:xfrm>
            <a:off x="971640" y="836640"/>
            <a:ext cx="7343640" cy="5853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2266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979640" y="115920"/>
            <a:ext cx="540072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фессор  Дамблдо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5040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утверждение ложн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о ставить зн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475000" y="-100800"/>
            <a:ext cx="728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341360"/>
            <a:ext cx="51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утверждение верное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о ставить зн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484720" y="1988640"/>
            <a:ext cx="7189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468000" y="1484640"/>
            <a:ext cx="1800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18920" y="4651560"/>
            <a:ext cx="15130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842920" y="1484640"/>
            <a:ext cx="180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948560" y="4651560"/>
            <a:ext cx="15127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732720" y="47628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3543480"/>
            <a:ext cx="9144000" cy="3314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187280" y="1268280"/>
            <a:ext cx="6840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ысталу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7280" y="1268280"/>
            <a:ext cx="6840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ралу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87280" y="3173400"/>
            <a:ext cx="662472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71640" y="333360"/>
                <a:ext cx="30970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,5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16000" y="1268280"/>
                <a:ext cx="29527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 txBox="1"/>
          <p:nvPr/>
        </p:nvSpPr>
        <p:spPr>
          <a:xfrm>
            <a:off x="395280" y="404640"/>
            <a:ext cx="343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1e3c5b"/>
                  </a:outerShdw>
                </a:effectLst>
                <a:latin typeface="Times New Roman"/>
              </a:rPr>
              <a:t>1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1e3c5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5280" y="1844640"/>
            <a:ext cx="34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1e3c5b"/>
                  </a:outerShdw>
                </a:effectLst>
                <a:latin typeface="Times New Roman"/>
              </a:rPr>
              <a:t>2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1e3c5b"/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71640" y="2874960"/>
                <a:ext cx="35290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,6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,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16000" y="4005360"/>
                <a:ext cx="19432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867280" y="404640"/>
                <a:ext cx="28800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1</m:t>
                    </m:r>
                    <m:r>
                      <m:t xml:space="preserve">+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651640" y="1557360"/>
                <a:ext cx="309708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580000" y="3429000"/>
                <a:ext cx="3456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,5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 txBox="1"/>
          <p:nvPr/>
        </p:nvSpPr>
        <p:spPr>
          <a:xfrm>
            <a:off x="395280" y="2997360"/>
            <a:ext cx="34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1e3c5b"/>
                  </a:outerShdw>
                </a:effectLst>
                <a:latin typeface="Times New Roman"/>
              </a:rPr>
              <a:t>3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1e3c5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5280" y="4076640"/>
            <a:ext cx="34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1e3c5b"/>
                  </a:outerShdw>
                </a:effectLst>
                <a:latin typeface="Times New Roman"/>
              </a:rPr>
              <a:t>4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1e3c5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076720" y="476280"/>
            <a:ext cx="34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1e3c5b"/>
                  </a:outerShdw>
                </a:effectLst>
                <a:latin typeface="Times New Roman"/>
              </a:rPr>
              <a:t>5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1e3c5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076720" y="1916280"/>
            <a:ext cx="34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1e3c5b"/>
                  </a:outerShdw>
                </a:effectLst>
                <a:latin typeface="Times New Roman"/>
              </a:rPr>
              <a:t>6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1e3c5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76720" y="3357720"/>
            <a:ext cx="34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1e3c5b"/>
                  </a:outerShdw>
                </a:effectLst>
                <a:latin typeface="Times New Roman"/>
              </a:rPr>
              <a:t>7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1e3c5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941720"/>
            <a:ext cx="9144000" cy="1836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- (-3);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- (-3,5);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- (-     );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- 0; </a:t>
            </a:r>
            <a:br>
              <a:rPr sz="40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- (-11);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- (-    ) ;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- 0,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08000" y="5781600"/>
            <a:ext cx="762120" cy="1076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8381880" y="5781600"/>
            <a:ext cx="762120" cy="107640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6227640" y="5084640"/>
            <a:ext cx="290520" cy="863640"/>
            <a:chOff x="6227640" y="5084640"/>
            <a:chExt cx="290520" cy="863640"/>
          </a:xfrm>
        </p:grpSpPr>
        <p:sp>
          <p:nvSpPr>
            <p:cNvPr id="172" name=""/>
            <p:cNvSpPr txBox="1"/>
            <p:nvPr/>
          </p:nvSpPr>
          <p:spPr>
            <a:xfrm>
              <a:off x="6249600" y="5084640"/>
              <a:ext cx="19368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6298920" y="5587920"/>
              <a:ext cx="21600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 rot="16200000">
              <a:off x="6335280" y="5337000"/>
              <a:ext cx="74880" cy="29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859280" y="5950080"/>
            <a:ext cx="290520" cy="764640"/>
            <a:chOff x="4859280" y="5950080"/>
            <a:chExt cx="290520" cy="764640"/>
          </a:xfrm>
        </p:grpSpPr>
        <p:sp>
          <p:nvSpPr>
            <p:cNvPr id="176" name=""/>
            <p:cNvSpPr txBox="1"/>
            <p:nvPr/>
          </p:nvSpPr>
          <p:spPr>
            <a:xfrm>
              <a:off x="4881600" y="6442920"/>
              <a:ext cx="193680" cy="27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 rot="16200000">
              <a:off x="4972680" y="6205680"/>
              <a:ext cx="63720" cy="29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4881600" y="5950080"/>
              <a:ext cx="216000" cy="30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0" t="0" r="0" b="101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3564000" y="4508640"/>
            <a:ext cx="4753080" cy="1078920"/>
            <a:chOff x="3564000" y="4508640"/>
            <a:chExt cx="4753080" cy="1078920"/>
          </a:xfrm>
        </p:grpSpPr>
        <p:sp>
          <p:nvSpPr>
            <p:cNvPr id="181" name=""/>
            <p:cNvSpPr/>
            <p:nvPr/>
          </p:nvSpPr>
          <p:spPr>
            <a:xfrm>
              <a:off x="3564000" y="4508640"/>
              <a:ext cx="4753080" cy="9349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3708720" y="4579920"/>
              <a:ext cx="4535280" cy="100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58008d"/>
                    </a:outerShdw>
                  </a:effectLst>
                  <a:latin typeface="Arial"/>
                </a:rPr>
                <a:t>тигурис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58008d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08000" y="2492280"/>
            <a:ext cx="5040360" cy="1125720"/>
            <a:chOff x="1908000" y="2492280"/>
            <a:chExt cx="5040360" cy="1125720"/>
          </a:xfrm>
        </p:grpSpPr>
        <p:sp>
          <p:nvSpPr>
            <p:cNvPr id="184" name=""/>
            <p:cNvSpPr/>
            <p:nvPr/>
          </p:nvSpPr>
          <p:spPr>
            <a:xfrm>
              <a:off x="1908000" y="2492280"/>
              <a:ext cx="5040360" cy="9352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2124000" y="2565360"/>
              <a:ext cx="4680000" cy="10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58008d"/>
                    </a:outerShdw>
                  </a:effectLst>
                  <a:latin typeface="Arial"/>
                </a:rPr>
                <a:t>моралус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58008d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95280" y="333360"/>
            <a:ext cx="5040360" cy="1295280"/>
            <a:chOff x="395280" y="333360"/>
            <a:chExt cx="5040360" cy="1295280"/>
          </a:xfrm>
        </p:grpSpPr>
        <p:sp>
          <p:nvSpPr>
            <p:cNvPr id="187" name=""/>
            <p:cNvSpPr/>
            <p:nvPr/>
          </p:nvSpPr>
          <p:spPr>
            <a:xfrm>
              <a:off x="395280" y="476280"/>
              <a:ext cx="5040360" cy="9349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611280" y="333360"/>
              <a:ext cx="468144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58008d"/>
                    </a:outerShdw>
                  </a:effectLst>
                  <a:latin typeface="Arial"/>
                </a:rPr>
                <a:t>бысталус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58008d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14:36:23Z</dcterms:created>
  <dc:creator>user</dc:creator>
  <dc:description/>
  <dc:language>en-US</dc:language>
  <cp:lastModifiedBy>user</cp:lastModifiedBy>
  <dcterms:modified xsi:type="dcterms:W3CDTF">2007-02-13T18:38:45Z</dcterms:modified>
  <cp:revision>18</cp:revision>
  <dc:subject/>
  <dc:title>Слайд 1</dc:title>
</cp:coreProperties>
</file>